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8A0-6A79-4A7D-9704-6B789D51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03B-ABEE-444C-BBC7-5E6EB01B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952-9D58-4CEB-B28B-E9B26B0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FEE-9A02-4C41-8D2B-4FBCEA7C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F34-F4C2-489E-8AFE-7A5B035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AD4-D782-4860-9DDB-3A9C911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83D-C0B8-4485-9F66-2936DCC1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FBA-EC94-43C6-99FB-F39D774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701-D89E-4E5B-9180-9C5A0F1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554-CBD6-4FD3-A041-9FDB2AC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D57-18DA-4B99-9574-7BC4BD2F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43B-FE9C-4461-A3DA-81F991C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321-BFBC-4A4C-8387-57C5FB01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8.xml"/><Relationship Id="rId17" Type="http://schemas.openxmlformats.org/officeDocument/2006/relationships/slide" Target="slide40.xml"/><Relationship Id="rId18" Type="http://schemas.openxmlformats.org/officeDocument/2006/relationships/slide" Target="slide42.xml"/><Relationship Id="rId19" Type="http://schemas.openxmlformats.org/officeDocument/2006/relationships/slide" Target="slide44.xml"/><Relationship Id="rId20" Type="http://schemas.openxmlformats.org/officeDocument/2006/relationships/slide" Target="slide46.xm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407-6609-4254-8AFC-73DA5ABF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72A3-AD83-4BDC-97AC-E2B27888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at are cell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8277-C146-4411-BD4A-3E577B7B2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05120" y="1828800"/>
            <a:ext cx="5943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514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Cell shape is determined by th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499-1AD1-474B-89A0-768CC37A4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at is cell functio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F7CE-4A1D-429D-BF99-BB7F83C4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The two basic types of cell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076-970A-453D-BA28-8694073C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42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are prokaryotes and eukaryote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1C1-8146-48CE-A49D-28145431C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123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This limits the size of the ce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AB3-A815-4A03-9675-48117F9D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429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surface area-to-volume ratio?</a:t>
            </a: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683-062C-4822-A697-E8CB8E1E2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omic Sans MS"/>
              </a:rPr>
              <a:t>The heirarchical organization found in multicellular organism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6DE-3FBA-4C0D-852F-3E133A46B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895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hat is cells make up tissues, tissues make up organs, organs make up organ systems, organ systems make up organism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English scientist who observed cork cel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878-921D-4EA8-8FFC-075B6437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22A1-C91B-46F1-85C1-EB5ABBB3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Cells &amp; Organiza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ACF8-9375-4505-A6A3-82578448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o was Robert Hook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745-8755-491E-810E-1AF7B335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German botanist who concluded all plants were composed of cell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FFE-96EE-4D19-BC81-12E85810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o was Matthias Schleide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EAB7-9437-466F-B9A8-B864BBB5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German zoologist who concluded all animals were composed of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Who was Theodor Schwan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4CF0-7C37-4D39-AD4A-7BBA2C60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5402-70D3-4863-810F-767CCD17B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Dutch trader who observed animalcul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o was Anton van Leeuwenhoek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173-B0A8-4872-A85C-86EEB9E6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B05-4C79-40BC-B789-13C5F5B4C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omic Sans MS"/>
              </a:rPr>
              <a:t>German physician who noted all cells come from other cell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o was Rudolf Virchow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8427-1871-428B-B9D1-E288213A8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D12-34CC-4D8A-8EB1-9DB23BED9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xample of a common prokaryo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0988-1E06-4EE1-9AC8-20D1B600C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 Histo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EE7A-62D6-4BD3-AE76-EF680BC8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are bacter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42C-9B94-4A4C-94DD-EC983BA00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haracteristic that groups all Prokaryotes togeth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1F80-27F2-4509-98C4-A98D76A4B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at is no nucleus &amp; no membrane-bound organell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1A9-223A-4106-9615-B87CAEBE3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Organisms made of one or more cells that have a ncleus and membrane-bound organel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E4A-FB62-4E89-8DE3-91885A8A8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eukaryot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75D3-4370-4808-96B7-68AFD02B1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066680" y="1219320"/>
            <a:ext cx="6934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5FC-82C4-44D3-8DBA-2140F284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he cell’s outer bound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432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0D25-F46A-4739-94AC-19054476C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plasma membra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27FC-F068-4254-B043-82643BB6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Membrane bound structure that controls the functions of a eukaryotic ce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83D-AD28-474D-9284-281D333F4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nucle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9395-2BBE-40FF-8136-FB2E61AA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439-5656-4A66-B63A-D54AA69FF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ree structures found in plant cells not found in animal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F96-2F9B-48D6-8140-D1E54FE7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What are plastids, central vacuoles, and cell wal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F605-027C-4B70-84A6-08F57876B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omic Sans MS"/>
              </a:rPr>
              <a:t>A large, fluid-filled organelle that stores water, enzymes, metabolic wastes, and other materials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FD3E-ED8A-4357-8B35-ABEA3C8BF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a central vacuol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87C-1AEC-4D26-8238-F35852263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Comic Sans MS"/>
              </a:rPr>
              <a:t>These plastids use light energy to make carbohydrates from carbon dioxide and water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042-A6D3-4AEC-B9BF-D1BCCF6B1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chloroplast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608-7CF0-40D0-968D-207D5A0D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e rigid layer that lies outside the cell’s plasma membra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A141-97A1-4078-BBD8-A484D8A3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cell wall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A344-A4CA-4F50-9DD5-E66DAD63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rocess by which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plant cells take carbon dioxide gas from the air and convert it into suga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19F-FB44-4851-9649-63310D2F3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photosynthe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93E3-2796-44E5-AEDE-D92E35E46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Plant Cells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4A4-0E9F-451B-903D-5828EDB4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This structure processes and packages prote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7B9-80D6-4B6E-BD1A-A5D6BDC1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Golgi apparat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16D-F18E-4DCF-9D2B-6FBB50641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 network of thin tubes and filaments that crisscrosses the cytos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D164-9FBF-4FE1-B492-6A1BA2CA4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cytoskelet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AC1-5178-4784-B6FB-05723F5B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mall spherically shaped sacs surrounded by a single membrane and classified by their cont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C51-890E-4417-9884-B3A5957A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vesicl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1F1-37CE-410D-8FF7-2AA8B4671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iny organelles that transfer energy from organic molecules to AT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3FF-37EC-42FC-A7E3-573E2AC99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mitochondria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rId1"/>
          </p:cNvPr>
          <p:cNvSpPr/>
          <p:nvPr/>
        </p:nvSpPr>
        <p:spPr>
          <a:xfrm>
            <a:off x="6094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2C3F-4913-4510-B608-84F2FB38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Small,roughly spherical organelles that are responsible for building prote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91D-0FCD-483A-9617-3BCED0041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are ribosome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5A6-F537-4613-8C63-2B2F78A88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093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Cell Organell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843-96CB-4581-8B14-9E41E3B5E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This structure functions as an intracellular highwa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6B05-E86E-4F40-BFFA-83A94C69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he endoplasmic reticulum (ER)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33BD-F88E-44ED-9DCB-5F10740D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lds contents of nucleus and similar in function to a cell’s cytoplas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6A56-7C49-432B-8D89-E929188C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is the nucleoplasm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88F2-33E0-467B-A80E-D3071A60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llows only certain molecules to enter or leave the ce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372-E04F-4390-9E53-B6769EF9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plasma membra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762-D123-4CE2-9EEF-E462E0F6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DNA is concentrated here when making ribosomal R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B9D-D72E-418D-AB7B-0EC745290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the nucleolus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0B3-E8FD-4AC8-8B55-2E951336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Abundant organelle in the liver where it helps detoxify drugs and pois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43B5-DB1F-4053-A80A-32A1FF9B3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is smooth ER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>
            <a:hlinkClick r:id="rId1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976B-06FD-42B7-8F19-E4204B89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0B49-6575-4323-A1B8-59EA2359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67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B39-6E9A-461B-B73D-BD1C078B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33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066680" y="43434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airlike structures that extend from the surface of the cell where they assist in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4320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A3C-AC66-428C-B025-A03D9DBA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1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447920" y="2133720"/>
            <a:ext cx="6629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What are cilia and flagell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99F-0D33-4DCC-93D0-4527D1406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4"/>
          <p:cNvSpPr/>
          <p:nvPr/>
        </p:nvSpPr>
        <p:spPr>
          <a:xfrm>
            <a:off x="8839080" y="6553080"/>
            <a:ext cx="228600" cy="152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5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s &amp;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6"/>
          <p:cNvSpPr/>
          <p:nvPr/>
        </p:nvSpPr>
        <p:spPr>
          <a:xfrm>
            <a:off x="1523880" y="2307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7"/>
          <p:cNvSpPr/>
          <p:nvPr/>
        </p:nvSpPr>
        <p:spPr>
          <a:xfrm>
            <a:off x="3200400" y="30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8"/>
          <p:cNvSpPr/>
          <p:nvPr/>
        </p:nvSpPr>
        <p:spPr>
          <a:xfrm>
            <a:off x="4800600" y="194400"/>
            <a:ext cx="10666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t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9"/>
          <p:cNvSpPr/>
          <p:nvPr/>
        </p:nvSpPr>
        <p:spPr>
          <a:xfrm>
            <a:off x="6172200" y="228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Organ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0"/>
          <p:cNvSpPr/>
          <p:nvPr/>
        </p:nvSpPr>
        <p:spPr>
          <a:xfrm>
            <a:off x="77724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DBE4-96F8-4503-ABA7-AE110E72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7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The smallest units of life in all living thing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robinson</cp:lastModifiedBy>
  <dcterms:modified xsi:type="dcterms:W3CDTF">2008-04-08T13:24:50Z</dcterms:modified>
  <cp:revision>75</cp:revision>
  <dc:subject/>
  <dc:title>No Slide Title</dc:title>
</cp:coreProperties>
</file>